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555-0CEA-4B66-A692-2633AB4B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029-60F4-4566-B06D-845202F8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DD5D-7D24-4922-893C-17B0076A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187E-E6E7-4176-86AD-1273DCF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C129F-C7A0-4F32-9587-5948CCF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8691-0ABC-425F-92A1-615EAB6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58F0-3104-4963-ACD1-9B09366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36922-4CA0-49E4-B464-AD2D2A5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B37AE-F45E-4D67-BA75-F799CCC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6F253-1176-4685-AB0C-49E187DA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63C2-06A0-4F82-BEAE-44896D99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D66-CB73-4966-AB73-ABE42B67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F24-BCF9-459F-B9D7-34DB26F7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1326-9B8A-442D-917B-A262226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1081-89E7-4EAF-B588-7CECF66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ED3A-8F11-45E0-B4DC-1D458984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E24-0E37-4BAD-898A-5BAFCB0A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261-8A2E-4358-9862-A60C1FB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A472-0E96-4DA4-9362-7CBB090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F4F8-DADD-4D5A-9BCB-A31EA56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AE4-388A-4C57-B8FE-84848057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2671-C177-44BB-9D92-57FFCBD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D3E7-BB1E-433B-A6B7-4D8EBC3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7D6-F120-4295-8855-24DB17F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1FF9-C87A-4FB9-881B-3429D92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4259-1F30-44FB-BF6E-5DA87706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4FDB-89F9-41AF-8082-836DF5BE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2D16-669A-43CA-9324-C667CBF1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5DCE-DAF9-4CA9-A3C0-791CC53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5BCB-7A37-412D-8B93-F422125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79B5-DD6B-4232-9106-7CC950C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8E1-6BEA-4D0F-8896-FBC4560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D862-08D6-425D-A56A-2CE80F1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DCF7-6AB8-4046-98CC-9CA283B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8A25-3891-4CEB-9123-B0C7A9B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8130-438C-400F-AE2D-2683E03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C2C6-DA00-4168-86DB-7C9F5471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9CC2-6DF0-484F-A1EE-6505D483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7EA3-E7CB-4760-8DA2-3139171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B129-6DFA-4E01-A47F-7F7D1963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D01F-40FE-41A8-925F-74EE44C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3466-10A4-4AF2-98E1-51A4B0F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0D4-8DA9-42A3-8583-418C060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2477-403B-40E4-83FE-1011BDA0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4A09-FAEC-4DAF-A4C0-5C8F668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16F4-B04E-418C-B842-3F08DB4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4A7D-DCBB-4CE9-826D-CD9D393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5E85-9A24-4ACC-91A8-8285214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DA79-7C3B-401F-B5FE-8BAB9DC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4EE6-AFCF-4B67-977C-B473E81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EF7C-07AB-442D-9C23-AB6BFED0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7DC2-56CA-4767-B9BC-5CCDC0B1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96FA-E1F1-41AF-83F7-788533EC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F1F-4725-45C1-9A8B-08C23D75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5330-A418-49AE-B3D1-6DCDED8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3017-6942-4082-A83E-A2E63183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1183-D8FB-4A27-AF8C-8D86D74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7760-7DCC-4C7C-90FF-3E6C724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75D12-78F0-40DA-A68B-A4E7AE22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B073-6D50-4AFB-B9A1-7537E03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DF23-3269-406A-817F-898B30B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BF26-5EDF-422F-8CB8-D05435C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72CC-6FEF-4337-A888-7C3A7CF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B588-C9CF-4E62-9FD6-C3BF00ED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302-6BFA-4D7F-9FBF-1094763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6020-535A-409A-ADB1-2B985825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B3AD-E023-4B86-A9F7-9010166E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65D2-C538-454E-930E-B6B6779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1123-D0BA-467F-8286-106B932E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C142-1DCF-4F9A-A402-4A82562B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729A-F354-40A9-AB77-9DE8FA55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336E6-4E11-4F47-A21E-C17B1A15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8CF2-9634-4076-AE50-C39E093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5D17-D462-43BA-AE5C-378AAB2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F2B5-07EF-4D40-AC8D-A008EF6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2DB-D9A7-4662-BE49-89D4DEE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2398-5BA0-418D-834F-F3C6F8C8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4DB6-886A-4816-82D7-0D776487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E13B-EEEF-4B7F-B570-CAB6BA58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7079D-EA07-4719-A49A-87055518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C56F-1B8A-4DD2-B324-ECE4F2B8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3F23-482E-41FC-BA17-02D62A1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1104-0E85-4784-8727-B0BD093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CEEE-4355-43FB-B985-405D165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0D27-8C95-43FE-980A-EFAB3F6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5952-0494-4C97-843A-BFB1129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85A-B41E-48FA-BFAF-0BBAC83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EACC-5B0A-47D9-BBAC-6ECC576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49B8-E666-4EDF-9A53-37D07C5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BE3F-3A84-4140-8ADB-AC9712C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FB43-A27D-412F-972D-C631C2EC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BFBB2-5BFE-444C-B61C-E9DBD34D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E9BA-6D25-41B5-B1BF-E273CE44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33AE-0406-4A23-AA4C-3EB0DE2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9379-FD62-416B-B8A4-A0209DC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0AFF-38D0-4916-B3F2-5198486E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71F0-8CEB-4C86-9509-E13E232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C6C-C833-4BCD-A9A4-9CF90B3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F036-0705-4A19-A215-CB4FEB9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3828C-5B61-456F-BBD8-2055A65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C5E0-160E-4890-A545-91E45D0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7A46E-090E-4E50-8509-034DB7A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7D76-D3A2-4029-A817-9ECC5E78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57A82-580D-409A-ABD5-89A832CD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5BEF2-AF7C-46A7-9171-108242C3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4BF2-46A6-4B69-8CB2-20BDA5FA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EAC4-9C25-43BA-851C-2199E1F0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3A05-FD1C-4A52-8107-11F89287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接點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523D-E2C7-41A7-9578-4A8C5D131158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線接點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直線接點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接點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71B6-711B-4BBD-ADF4-58ED83137BCE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接點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直線接點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直線接點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75A-5DA4-4D05-95BA-5266E7D4F6C7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接點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BF1D-4FBF-498E-A6D7-C2C259A8A7DE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接點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線接點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1263-A744-45B8-8C87-FC683489645C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9E6-EC25-446D-A077-E8CF9117D51C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接點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線接點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4149-6EB5-4AEF-95CC-9D9007F2DE78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C62-ACF6-491B-83DB-1F5E9A5F7125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0A2-54FA-41A8-A2C0-893BF4758B95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標題 1" descr=""/>
          <p:cNvPicPr/>
          <p:nvPr/>
        </p:nvPicPr>
        <p:blipFill>
          <a:blip r:embed="rId2"/>
          <a:stretch/>
        </p:blipFill>
        <p:spPr>
          <a:xfrm>
            <a:off x="12600" y="390600"/>
            <a:ext cx="837576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趙陶暄、蔡瑞琪、陳思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（第</a:t>
            </a:r>
            <a:r>
              <a:rPr b="0" lang="en-US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56</a:t>
            </a: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頁）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標題 1" descr=""/>
          <p:cNvPicPr/>
          <p:nvPr/>
        </p:nvPicPr>
        <p:blipFill>
          <a:blip r:embed="rId2"/>
          <a:stretch/>
        </p:blipFill>
        <p:spPr>
          <a:xfrm>
            <a:off x="-36360" y="133200"/>
            <a:ext cx="8667720" cy="2092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純真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天真、幼稚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不會放過任何一個問問題的機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負責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誠懇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荒謬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守規矩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樂意為大衆服務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努力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盡責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自卑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忠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標題 1" descr=""/>
          <p:cNvPicPr/>
          <p:nvPr/>
        </p:nvPicPr>
        <p:blipFill>
          <a:blip r:embed="rId2"/>
          <a:stretch/>
        </p:blipFill>
        <p:spPr>
          <a:xfrm>
            <a:off x="12600" y="324000"/>
            <a:ext cx="8985240" cy="1504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羣星中最小一顆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面積緊夠一盞路燈和一位點燈人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沒有房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沒有居民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跨三步就可以繞一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標題 1" descr=""/>
          <p:cNvPicPr/>
          <p:nvPr/>
        </p:nvPicPr>
        <p:blipFill>
          <a:blip r:embed="rId2"/>
          <a:stretch/>
        </p:blipFill>
        <p:spPr>
          <a:xfrm>
            <a:off x="12600" y="324000"/>
            <a:ext cx="8985240" cy="1504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王子到訪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看到正在點燈的點燈人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因爲星球轉的越來越快，一分鐘就要點一次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王子便離開了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“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可能這個人的行爲荒謬。決不會比國王、愛虛榮的人、商人、酒鬼更荒謬。他的工作有一種意義。把燈點了好比添上了一顆星或一朵花。他把燈熄滅，是讓花朵或星星睡覺。這是一件美的工作。這才是有益的，因爲它美麗。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蔡瑞琪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覺得他很負責任。雖然星球上沒有居民，但他也很盡責，一直緊守崗位！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趙陶暄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很欣賞點燈人。既然星球上沒有居民，他大可以偷懶、睡覺、休息。雖然他的行爲值得別人恥笑，但是，卻反映了他對工作的熱誠及樂觀的態度。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陳思琦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認爲點燈人很無聊。他那麽喜歡睡覺，又不敢不守規則。我想知道，他爲什麽不去一個有人的星球點燈？我覺得他很可悲，既然他知道自己的工作不堪忍受，爲什麽不去做別的事情？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到底點燈人對路燈有沒有感情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是否就像小王子對玫瑰一樣，又愛又恨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這盞燈是令點燈人不能睡覺的原因，但是又陪伴了他那麽久，點燈人會不會像小王子一樣愛著玫瑰一樣，愛路燈呢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點燈人一直都那麽負責任，他是對工作有一種沒有人可以感受的熱誠，還是被迫呢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謝謝觀賞！</a:t>
            </a:r>
            <a:endParaRPr b="0" lang="en-US" sz="1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4:05:38Z</dcterms:created>
  <dc:creator>User</dc:creator>
  <dc:description/>
  <dc:language>en-US</dc:language>
  <cp:lastModifiedBy>carollam</cp:lastModifiedBy>
  <dcterms:modified xsi:type="dcterms:W3CDTF">2011-05-24T04:43:44Z</dcterms:modified>
  <cp:revision>20</cp:revision>
  <dc:subject/>
  <dc:title>小王子-點燈人</dc:title>
</cp:coreProperties>
</file>